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281C-C1AE-4851-8D2D-7130B58C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8A2E-C1F3-47E8-8E07-AAEF88CF98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0F91-4C95-45B1-AF20-FC28B7CC1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AE0-41B4-47CC-93D9-9956A5D25D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5CE5-6558-4AD5-98D7-87EC7721A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B0B9-3BD8-4042-A254-933BB77FBA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A643-60C1-4208-B348-63DA0BC08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7A8-E5AE-4181-9163-AB07D8ED8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9C92-01A0-439E-9619-43D1970487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AEDF-205B-4EBD-ACF8-B1AEBAF5F1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98FF-7430-48B0-A669-2D9317E585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0C1-54EB-402C-B3D5-2B5D38F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7D1-98EB-49FA-AE13-753CA94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9EE-AA4D-4FB2-9874-09EE0D6C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FCE-58A6-48D9-976E-661AAA4D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6DB-6664-42AF-971E-7344B31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573-9F07-4F58-8F62-D6915CF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4FF-041F-4F12-8214-FC39A40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CE1-0176-49E6-9478-57604DB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0E3-2657-4507-9148-DE2B3C36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0BC-EF2D-4592-AFE8-52529F6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F6D-1279-4340-AF4D-25F67ED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965-D066-4228-A20C-41843524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826B-D017-43C7-9CB5-F8A956A01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aaa.gif"/>
          <p:cNvPicPr/>
          <p:nvPr/>
        </p:nvPicPr>
        <p:blipFill>
          <a:blip r:embed="rId1"/>
          <a:stretch/>
        </p:blipFill>
        <p:spPr>
          <a:xfrm>
            <a:off x="533520" y="685800"/>
            <a:ext cx="4381560" cy="6172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4643280" y="1357200"/>
            <a:ext cx="57150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7030a0"/>
                </a:solidFill>
                <a:latin typeface="Sylfaen"/>
              </a:rPr>
              <a:t>Aesop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Sylfaen"/>
              </a:rPr>
              <a:t>and his Fab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6339600" y="62485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Modified by Mrs. 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428760" y="157176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71680" y="1571760"/>
            <a:ext cx="421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Quick as a flash, the fox jumped on the goat’s back and leaped out of well. He left the goat stuck in the w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53160" y="78588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The Fox and the Go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030" descr="F:\Greece PowerPoint\greece page 14c art.gif"/>
          <p:cNvPicPr/>
          <p:nvPr/>
        </p:nvPicPr>
        <p:blipFill>
          <a:blip r:embed="rId1"/>
          <a:stretch/>
        </p:blipFill>
        <p:spPr>
          <a:xfrm>
            <a:off x="4876920" y="1676520"/>
            <a:ext cx="4000320" cy="4238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571680" y="4071960"/>
            <a:ext cx="414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Moral of This Stor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pple Casual"/>
                <a:ea typeface="Arial"/>
              </a:rPr>
              <a:t>Don’t always believe what you hear from someone in trou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arts of an Aesop-type Fable: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aaa.gif"/>
          <p:cNvPicPr/>
          <p:nvPr/>
        </p:nvPicPr>
        <p:blipFill>
          <a:blip r:embed="rId1"/>
          <a:stretch/>
        </p:blipFill>
        <p:spPr>
          <a:xfrm>
            <a:off x="4343400" y="380880"/>
            <a:ext cx="438156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096920" y="100008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285920" y="2071800"/>
            <a:ext cx="31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Click here to read, watch and listen to more of Aesop’s Fables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071800" y="528624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PPPST.CO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2" descr="BANNER 2"/>
          <p:cNvPicPr/>
          <p:nvPr/>
        </p:nvPicPr>
        <p:blipFill>
          <a:blip r:embed="rId1"/>
          <a:stretch/>
        </p:blipFill>
        <p:spPr>
          <a:xfrm>
            <a:off x="1790640" y="1771560"/>
            <a:ext cx="5562720" cy="3313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928800" y="50004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 brought to you by 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90720" y="6095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iginal provided by: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  <a:ea typeface="Arial"/>
              </a:rPr>
              <a:t>Lin Donn and Phillip Mar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114300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Aesop is known as an ancient  storyteller from Greece who might have lived around 550 BCE. If he existed, he was a slave, believed to be from Ethiopia. At a young age, he was sold the slave trade in Greec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f he existed, he did not leave behind a book of his fables. He is known to have memorized and recited his stories, otherwise known as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oral tradition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greece page 7 art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533520" y="38088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486400" y="5029200"/>
            <a:ext cx="2843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481"/>
                </a:solidFill>
                <a:latin typeface="Tahoma"/>
              </a:rPr>
              <a:t>Critical Think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481"/>
                </a:solidFill>
                <a:latin typeface="Apple Casual"/>
                <a:ea typeface="Apple Casual"/>
              </a:rPr>
              <a:t>Why do you think most books and sources fail to tell us Aesop’s correct race and skin color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hat is a fable….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163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 Brief Fable History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182520" y="1268280"/>
            <a:ext cx="900432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71680" y="150012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8" descr="greece page 7 art"/>
          <p:cNvPicPr/>
          <p:nvPr/>
        </p:nvPicPr>
        <p:blipFill>
          <a:blip r:embed="rId1"/>
          <a:stretch/>
        </p:blipFill>
        <p:spPr>
          <a:xfrm>
            <a:off x="2552760" y="1000080"/>
            <a:ext cx="403848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71680" y="442908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Legend says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… Aesop’s Roman master, Iadmon, was so delighted with Aesop’s fables that he granted Aesop his freedom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71680" y="71424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571680" y="1500120"/>
            <a:ext cx="4076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There are no records to prove that Aesop ever wrote anything down.  Fortunately, after his death, people did write down every fable they could remember. A few of these authors are Phaedrus (1</a:t>
            </a:r>
            <a:r>
              <a:rPr b="0" lang="en-US" sz="20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Century CE) and Babrius (2</a:t>
            </a:r>
            <a:r>
              <a:rPr b="0" lang="en-US" sz="2000" spc="-1" strike="noStrike" baseline="30000">
                <a:solidFill>
                  <a:srgbClr val="00206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century CE)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71680" y="485784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Over the centuries, Aesop's fables have been rewritten and illustrated and translated into nearly every language in the worl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71680" y="71424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6" descr="aaa.gif"/>
          <p:cNvPicPr/>
          <p:nvPr/>
        </p:nvPicPr>
        <p:blipFill>
          <a:blip r:embed="rId1"/>
          <a:stretch/>
        </p:blipFill>
        <p:spPr>
          <a:xfrm>
            <a:off x="4500720" y="357120"/>
            <a:ext cx="40719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071960" y="1822320"/>
            <a:ext cx="500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oday, we still enjoy these wonderful stories created over 2,500 years ago!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Each is a very short story, and each has a mora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000760" y="471492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Like this one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71680" y="714240"/>
            <a:ext cx="335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Aesop’s Fab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7" descr="aaa.gif"/>
          <p:cNvPicPr/>
          <p:nvPr/>
        </p:nvPicPr>
        <p:blipFill>
          <a:blip r:embed="rId1"/>
          <a:stretch/>
        </p:blipFill>
        <p:spPr>
          <a:xfrm>
            <a:off x="214200" y="1571760"/>
            <a:ext cx="46436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428760" y="164304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F:\Greece PowerPoint\greece page 14b art.gif"/>
          <p:cNvPicPr/>
          <p:nvPr/>
        </p:nvPicPr>
        <p:blipFill>
          <a:blip r:embed="rId1"/>
          <a:stretch/>
        </p:blipFill>
        <p:spPr>
          <a:xfrm>
            <a:off x="4876920" y="1676520"/>
            <a:ext cx="4038480" cy="4278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571680" y="1714680"/>
            <a:ext cx="4000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One day, a fox fell down a well. He tried to climb out, but the well was too dee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 goat wandered by. He peered down curiously.  “What are you doing in a well?” asked the go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53160" y="78588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The Fox and the Go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64304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71680" y="1714680"/>
            <a:ext cx="400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I’m warning you, goat,” snarled the fox. “This is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my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water! Go away.”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You can’t keep all the water for yourself,” the goat snorted. The goat jumped in the w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353160" y="785880"/>
            <a:ext cx="52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Sylfaen"/>
              </a:rPr>
              <a:t>The Fox and the Go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7" descr="F:\Greece PowerPoint\greece page 14b art.gif"/>
          <p:cNvPicPr/>
          <p:nvPr/>
        </p:nvPicPr>
        <p:blipFill>
          <a:blip r:embed="rId1"/>
          <a:stretch/>
        </p:blipFill>
        <p:spPr>
          <a:xfrm>
            <a:off x="4876920" y="1676520"/>
            <a:ext cx="40384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9:48:28Z</dcterms:created>
  <dc:creator>Lin Donn</dc:creator>
  <dc:description>Illustrated by Phillip Martin</dc:description>
  <dc:language>en-US</dc:language>
  <cp:lastModifiedBy>sarah baird</cp:lastModifiedBy>
  <dcterms:modified xsi:type="dcterms:W3CDTF">2010-02-05T21:51:53Z</dcterms:modified>
  <cp:revision>92</cp:revision>
  <dc:subject/>
  <dc:title>Aesop and His Fables</dc:title>
</cp:coreProperties>
</file>